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BC3-380A-479C-94D8-6998AAC6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E81-BAD6-4D05-8AAC-4BE3587B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7A9-C4D2-4DF3-A222-3B0A32FA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681-BA29-4EA7-BC12-63E1CC2B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97D2-2FCB-4066-B57C-B872ED9F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3CE0-F0B3-4F00-98FF-C2E1C024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2989-2CC7-4FE8-9388-57B6C532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9E00-37E9-4121-894C-59BF1160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AFF-E79F-4B8C-B640-D599528B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F6B9-E679-4F80-BD4A-73CD6F83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34DD-2859-42AB-97A2-9F0C651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5C6-C024-4234-A7CC-DC0265F8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A932-ACBD-4254-B9C9-3204B1C4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BB5A-8FAC-4443-B80D-F2461590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A14A-15EA-4FFB-97D0-45A05E5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8398-D3DD-40E3-933B-0D13D2FF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7C0B-E279-4636-B2D9-3F3453E6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3AE-F232-49B5-829D-C86BB55E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DE3-889B-434A-B584-2B9C7E2E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381-1CAF-4B05-AC46-208180F6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DD4-2734-4CE5-AD8D-DCB99A34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155-0620-451B-AF9D-933A650B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9E3-3ABF-4CD0-B743-3B89DFE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3CC-03FB-4C5D-B525-9281BD90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1898-62E9-4CB6-B321-8EFA670DE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26D6-BB17-4355-948C-53C66279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21:46:12Z</dcterms:created>
  <dc:creator>Chris Nokleberg</dc:creator>
  <dc:description/>
  <dc:language>en-US</dc:language>
  <cp:lastModifiedBy>Chris Nokleberg</cp:lastModifiedBy>
  <dcterms:modified xsi:type="dcterms:W3CDTF">2004-10-22T21:46:23Z</dcterms:modified>
  <cp:revision>1</cp:revision>
  <dc:subject/>
  <dc:title/>
</cp:coreProperties>
</file>