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EEF-10C9-48DE-91B7-CE29A48D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490-67C6-40D3-8244-9B1A4635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282-E819-4E0E-9E99-A2C62F5F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A63-DE82-4986-8056-99B7A559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350-A1F5-4CCD-A48A-F869C69F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F71-107B-4984-A1F7-41325C14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C5C-7825-4F09-9A58-63608D57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96F-D62F-4820-91D6-479BEDB1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097-61B6-455A-81BB-6EF6E5F7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393-0D4D-44CD-9BAB-B6C8E62E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0F6-1755-4923-8957-3152D369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108-6029-4B90-BCB6-2CE0253D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432C-01AE-4F79-B676-AE5CAA2CA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Chris Nokleberg</dc:creator>
  <dc:description/>
  <dc:language>en-US</dc:language>
  <cp:lastModifiedBy>Chris Nokleberg</cp:lastModifiedBy>
  <dcterms:modified xsi:type="dcterms:W3CDTF">2004-05-06T19:43:19Z</dcterms:modified>
  <cp:revision>1</cp:revision>
  <dc:subject/>
  <dc:title>PowerPoint Presentation</dc:title>
</cp:coreProperties>
</file>