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194-F56D-4769-BA89-198F1A41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DDD-A195-4A8D-B152-2DC23F5B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5C2-49E4-45EF-80EC-BB9E3F83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7B7-E79D-4FBA-A1B9-0435766D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059-5561-40D6-A745-D4145B34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5752-9A3B-4C29-837E-83984BC5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D4C-136B-4A0F-A4AD-47BB1C8E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AC64-F365-43B3-B130-21D5C6DF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47D-385D-4FDE-A119-876B0C3D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416-B0EE-47F5-93B0-9BA295A6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F03-CDF5-4DDB-99A8-7A0C9900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7C4-687A-480F-B67B-19CD7594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BD68-B2C4-445E-A93C-BEAF1FA9C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2.png"/><Relationship Id="rId1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765000"/>
            <a:ext cx="7993080" cy="532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655640"/>
            <a:ext cx="1368360" cy="4437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2065320"/>
            <a:ext cx="6624720" cy="402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5560" y="17496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760" y="222552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09640" y="2174760"/>
            <a:ext cx="0" cy="344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5160" y="382428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188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6880" y="4467240"/>
            <a:ext cx="423720" cy="2318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9" idx="3"/>
            <a:endCxn id="51" idx="0"/>
          </p:cNvCxnSpPr>
          <p:nvPr/>
        </p:nvCxnSpPr>
        <p:spPr>
          <a:xfrm flipH="1" flipV="1">
            <a:off x="812880" y="3429000"/>
            <a:ext cx="208080" cy="1154520"/>
          </a:xfrm>
          <a:prstGeom prst="bentConnector4">
            <a:avLst>
              <a:gd name="adj1" fmla="val -114038"/>
              <a:gd name="adj2" fmla="val 1200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2" name="" descr="draw-text.png"/>
          <p:cNvPicPr/>
          <p:nvPr/>
        </p:nvPicPr>
        <p:blipFill>
          <a:blip r:embed="rId1"/>
          <a:stretch/>
        </p:blipFill>
        <p:spPr>
          <a:xfrm>
            <a:off x="32637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480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6798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0970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2076480" y="906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556000" y="906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50166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56008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18480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6908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4432320" y="55389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5160" y="26370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609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429000"/>
            <a:ext cx="114480" cy="1144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5160" y="5178600"/>
            <a:ext cx="80676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7720" y="1655640"/>
            <a:ext cx="80640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2886120" y="27860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2886120" y="32320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6480" y="332100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6480" y="3835440"/>
            <a:ext cx="5022720" cy="181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4"/>
          <a:stretch/>
        </p:blipFill>
        <p:spPr>
          <a:xfrm>
            <a:off x="735336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7640" y="55389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2843280" y="37465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6480" y="2874960"/>
            <a:ext cx="502272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3960" y="332100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86440" y="3835440"/>
            <a:ext cx="1752480" cy="1810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86120" y="466416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68920" y="438300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sec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468560" y="474984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(fram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76960" y="2637000"/>
            <a:ext cx="0" cy="24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98000" y="281304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8360" y="325908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97640" y="377352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780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5140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846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1824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5148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8320" y="4591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53360" y="45925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82880" y="5049720"/>
            <a:ext cx="541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14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81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13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48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82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15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01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15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1520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81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147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49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84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8156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78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80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4824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1720" y="497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5:40:40Z</dcterms:created>
  <dc:creator>Jon Peirce</dc:creator>
  <dc:description/>
  <dc:language>en-US</dc:language>
  <cp:lastModifiedBy>Jon Peirce</cp:lastModifiedBy>
  <dcterms:modified xsi:type="dcterms:W3CDTF">2008-09-28T16:27:18Z</dcterms:modified>
  <cp:revision>4</cp:revision>
  <dc:subject/>
  <dc:title>Slide 1</dc:title>
</cp:coreProperties>
</file>