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87D-EF6D-47A4-8FEE-D834942C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FAA-55FA-436A-A0B8-AC215049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CB9E-467D-45EC-B37B-33446F79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A55E-F941-41CB-BC2D-5E7B0ECE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0F1-8E34-439F-9991-11A41685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0EF-B77C-45E3-AFD5-6F10BAC9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DED7-3367-439B-A0CA-99BD31B3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1C78-5C72-452C-B25A-A47B49C9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B7F-5337-4A02-A8EB-DB4931D2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FA5-0B36-49B1-A794-114D3CAF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D871-C9E7-406C-AD78-EDFB73F6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A45A-B3DB-43BA-A765-A00B9FDC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A31C-F8F2-4E2B-9CBB-C868EAD7B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765000"/>
            <a:ext cx="7993080" cy="532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655640"/>
            <a:ext cx="1368360" cy="4437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2065320"/>
            <a:ext cx="6624720" cy="4027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5560" y="17496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75760" y="222552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9640" y="2174760"/>
            <a:ext cx="0" cy="344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5160" y="382428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188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6880" y="4467240"/>
            <a:ext cx="423720" cy="2318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9" idx="3"/>
            <a:endCxn id="51" idx="0"/>
          </p:cNvCxnSpPr>
          <p:nvPr/>
        </p:nvCxnSpPr>
        <p:spPr>
          <a:xfrm flipH="1" flipV="1">
            <a:off x="812880" y="3429000"/>
            <a:ext cx="208080" cy="1154520"/>
          </a:xfrm>
          <a:prstGeom prst="bentConnector4">
            <a:avLst>
              <a:gd name="adj1" fmla="val -114038"/>
              <a:gd name="adj2" fmla="val 1200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2" name="" descr="draw-text.png"/>
          <p:cNvPicPr/>
          <p:nvPr/>
        </p:nvPicPr>
        <p:blipFill>
          <a:blip r:embed="rId1"/>
          <a:stretch/>
        </p:blipFill>
        <p:spPr>
          <a:xfrm>
            <a:off x="326376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480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6798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0970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076480" y="906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556000" y="906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0166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60088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61848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6908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4432320" y="55389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5160" y="263700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6092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429000"/>
            <a:ext cx="114480" cy="1144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5160" y="517860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772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2886120" y="27860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2886120" y="3232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6480" y="332100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6480" y="287496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6480" y="383544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4"/>
          <a:stretch/>
        </p:blipFill>
        <p:spPr>
          <a:xfrm>
            <a:off x="735336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76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2843280" y="37465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6480" y="2874960"/>
            <a:ext cx="502272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33960" y="3321000"/>
            <a:ext cx="175248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86440" y="3835440"/>
            <a:ext cx="175248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6120" y="4664160"/>
            <a:ext cx="541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8920" y="4383000"/>
            <a:ext cx="7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 (se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68560" y="474984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 (fr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76960" y="2637000"/>
            <a:ext cx="0" cy="24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98000" y="281304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x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98360" y="32590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97640" y="377352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7800" y="45925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5140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8464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1824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5148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832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53360" y="45925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82880" y="5049720"/>
            <a:ext cx="541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45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814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813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48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82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84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150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501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15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152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817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147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149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84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815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478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480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482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17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5:40:40Z</dcterms:created>
  <dc:creator>Jon Peirce</dc:creator>
  <dc:description/>
  <dc:language>en-US</dc:language>
  <cp:lastModifiedBy>Jon Peirce</cp:lastModifiedBy>
  <dcterms:modified xsi:type="dcterms:W3CDTF">2008-09-28T16:27:18Z</dcterms:modified>
  <cp:revision>4</cp:revision>
  <dc:subject/>
  <dc:title>Slide 1</dc:title>
</cp:coreProperties>
</file>