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796-3AD1-406C-B1EF-629C7EA5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B43-265E-47DD-B00D-0B8A3364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B2F-1962-4C48-ABAD-9305F6CA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DC8-5EB2-426C-818C-3B792374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FFAC-88FB-4270-A837-9096F7A7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EDD-DA27-4DBA-8700-155F53CE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1A2-F129-417E-A243-B26D858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395C-8A2E-44D2-A910-E6AC57E4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309E-21F9-4B8C-AD38-0A8FEC96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557A-FE4A-4884-825C-D485007C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DAD-48FF-46C9-A497-EF0E6A5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7DA-E1EA-4E5E-A58F-F21659C9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F06-44C9-48BA-BEE5-D537CEC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A4C-02BA-48ED-A8D6-CF5965C5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63AB-8385-4FD6-9C5F-4C89E3E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8E4C-A3FA-4F50-8EA8-ECF5DD6B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CF88-D2BD-42EB-B410-89C7FCAE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53A-A73B-4D7B-9B7B-0A061FF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64D-8218-4D74-B7C6-8DC67EC3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4C1-9343-4F51-A362-EC6FF0F7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D89-6FDB-41A5-901F-2C2E0189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8352-65FD-40C1-B6EF-D56C18B9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3B1-D826-4F49-BCAF-15D6250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FA6-24D7-43D7-83A4-D6D1ABA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DCB-AAEA-479A-A28E-8A57E7C60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D02C-E53E-4908-B7DD-D5339EC6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21:46:12Z</dcterms:created>
  <dc:creator>Chris Nokleberg</dc:creator>
  <dc:description/>
  <dc:language>en-US</dc:language>
  <cp:lastModifiedBy>Chris Nokleberg</cp:lastModifiedBy>
  <dcterms:modified xsi:type="dcterms:W3CDTF">2004-10-22T21:46:23Z</dcterms:modified>
  <cp:revision>1</cp:revision>
  <dc:subject/>
  <dc:title/>
</cp:coreProperties>
</file>