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417-6878-45E5-AA20-7ECDDE35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B43-79DA-4423-8271-2270DB29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9980-720C-4E97-BBE0-F6398B7A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3CF-481C-4D71-81E5-38F08940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71E-7CAC-44C9-A62E-D2ECB4A2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28F-9B76-400D-AF50-3EB7F560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1EE-F4E3-4406-98FE-22868B3D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FBE-26CD-4BC4-B290-C757C641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007-4377-47AF-8426-72E8338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8DC-59F3-4D3B-AE8A-5610036C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547-FEAA-4A45-BF56-4D9D631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3F2-6023-446D-AAC1-11BB35D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2176-93FB-4532-AD29-33B864D3D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Chris Nokleberg</dc:creator>
  <dc:description/>
  <dc:language>en-US</dc:language>
  <cp:lastModifiedBy>Chris Nokleberg</cp:lastModifiedBy>
  <dcterms:modified xsi:type="dcterms:W3CDTF">2004-05-06T19:43:19Z</dcterms:modified>
  <cp:revision>1</cp:revision>
  <dc:subject/>
  <dc:title>PowerPoint Presentation</dc:title>
</cp:coreProperties>
</file>